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45B-1F5F-4282-8318-C4D8F270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676-35BF-48A6-9512-2D7B2A0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61F-7F5E-4681-A8AF-4667BB5A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63E-F727-4DED-879D-0BC2B3C3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B3F08-B3C9-4D8A-B02E-2EE40673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30193-2D63-48FA-ABD7-82A04306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03841-E25E-4689-8932-BEFA0E6A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22A91-BDBB-4463-A774-5CBDFCCE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E0A73-A0C2-4E9E-ABA8-5D85E0A7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84FF-83A9-485D-A653-86646A4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FD58F-4499-4A9E-8924-01709B5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F34-58DB-4E96-B886-8AAFBDB1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0E64D-1998-436F-B7B1-B6B5027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3AF84-A32C-4BF9-9809-688F49B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9BDD4-96B8-4D9E-B046-85A5542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F95B5-E3BB-49DD-A4FC-F08F5CDD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A3C90-E42B-425A-A6B0-C3B01F7D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983-D3F9-4A88-AC7E-169C093B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711-FC15-45DF-AA55-FE5A9739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E97-802C-477E-9B43-180334DC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C08-88FE-48B3-BD76-191A76B9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746-9248-4F7D-A22B-2AC5911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D09-CAEF-4C16-ABE3-1D2AD15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D99-DFE6-42A2-ACAF-2A6CC85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F783-40D2-4C39-A791-0A5098AC70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A8F0-B8F5-452D-9D10-9F06D824599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4.bp.blogspot.com/_uheNlUAGBA8/Sd0B2D2AG7I/AAAAAAAAAoY/Me2qrEf6ZeA/s1600-h/chincha+cera.jpg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HINCH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24000" y="5229360"/>
            <a:ext cx="38480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. Elizabeth ESPIN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p41-2"/>
          <p:cNvPicPr/>
          <p:nvPr/>
        </p:nvPicPr>
        <p:blipFill>
          <a:blip r:embed="rId1"/>
          <a:stretch/>
        </p:blipFill>
        <p:spPr>
          <a:xfrm>
            <a:off x="1116000" y="3573360"/>
            <a:ext cx="2106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rquitectura Chinc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struían ciudadelas amuralladas con adobes y decoraciones en los mu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culturas-chimu-chincha_image012"/>
          <p:cNvPicPr/>
          <p:nvPr/>
        </p:nvPicPr>
        <p:blipFill>
          <a:blip r:embed="rId1"/>
          <a:stretch/>
        </p:blipFill>
        <p:spPr>
          <a:xfrm>
            <a:off x="468360" y="1916280"/>
            <a:ext cx="4189320" cy="271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fudachi1"/>
          <p:cNvPicPr/>
          <p:nvPr/>
        </p:nvPicPr>
        <p:blipFill>
          <a:blip r:embed="rId2"/>
          <a:stretch/>
        </p:blipFill>
        <p:spPr>
          <a:xfrm>
            <a:off x="1042920" y="4653000"/>
            <a:ext cx="3024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Cerámica Chinch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0" y="2060640"/>
            <a:ext cx="45720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ncilla, con decoraciones geométricas y figuras estiliz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Formas: cántaros, vasijas con asas, platos, vasos de boca anch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chincha+cera+3"/>
          <p:cNvPicPr/>
          <p:nvPr/>
        </p:nvPicPr>
        <p:blipFill>
          <a:blip r:embed="rId1"/>
          <a:stretch/>
        </p:blipFill>
        <p:spPr>
          <a:xfrm>
            <a:off x="395280" y="1484280"/>
            <a:ext cx="2616120" cy="257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chincha+ce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2349360"/>
            <a:ext cx="1565280" cy="211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icachincha_1"/>
          <p:cNvPicPr/>
          <p:nvPr/>
        </p:nvPicPr>
        <p:blipFill>
          <a:blip r:embed="rId4"/>
          <a:stretch/>
        </p:blipFill>
        <p:spPr>
          <a:xfrm>
            <a:off x="755640" y="400536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Cultura+Chincha+-+Ceramica+2"/>
          <p:cNvPicPr/>
          <p:nvPr/>
        </p:nvPicPr>
        <p:blipFill>
          <a:blip r:embed="rId5"/>
          <a:stretch/>
        </p:blipFill>
        <p:spPr>
          <a:xfrm>
            <a:off x="2268360" y="4508640"/>
            <a:ext cx="14479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Religión Chinc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rincipales dio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hinchaycámac (= dios cread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rpiwachay (= diosa de los pe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20080605klphishpe_52_Ies_SCO"/>
          <p:cNvPicPr/>
          <p:nvPr/>
        </p:nvPicPr>
        <p:blipFill>
          <a:blip r:embed="rId1"/>
          <a:stretch/>
        </p:blipFill>
        <p:spPr>
          <a:xfrm>
            <a:off x="4525920" y="1628640"/>
            <a:ext cx="2133720" cy="313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7383504817594019"/>
          <p:cNvPicPr/>
          <p:nvPr/>
        </p:nvPicPr>
        <p:blipFill>
          <a:blip r:embed="rId2"/>
          <a:stretch/>
        </p:blipFill>
        <p:spPr>
          <a:xfrm>
            <a:off x="6659640" y="3716280"/>
            <a:ext cx="2079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273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entro: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c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(Costa Su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iudades importantes: Tambo de Mora / Huaca Centin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Mapa+de+cultura+Chincha+1"/>
          <p:cNvPicPr/>
          <p:nvPr/>
        </p:nvPicPr>
        <p:blipFill>
          <a:blip r:embed="rId1"/>
          <a:stretch/>
        </p:blipFill>
        <p:spPr>
          <a:xfrm>
            <a:off x="5940360" y="1700280"/>
            <a:ext cx="2457360" cy="349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hincha"/>
          <p:cNvPicPr/>
          <p:nvPr/>
        </p:nvPicPr>
        <p:blipFill>
          <a:blip r:embed="rId2"/>
          <a:stretch/>
        </p:blipFill>
        <p:spPr>
          <a:xfrm>
            <a:off x="3995640" y="4221000"/>
            <a:ext cx="2433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desarrollaron en el periodo llamado INTERMEDIO TARDÍO, luego de la desaparición del Imperio Wari u Horizonte Medi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xistieron al mismo tiempo que: Chimú, Chachapoyas, Cajamarca, Reinos Aymaras, Chancas y Reino del Cuz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Mapa"/>
          <p:cNvPicPr/>
          <p:nvPr/>
        </p:nvPicPr>
        <p:blipFill>
          <a:blip r:embed="rId1"/>
          <a:stretch/>
        </p:blipFill>
        <p:spPr>
          <a:xfrm>
            <a:off x="4643280" y="1628640"/>
            <a:ext cx="408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Econó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xcelent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navegantes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contaban con una flota de balsas, con las que intercambiaban productos a lo largo de la costa del Pacífico (hasta otros país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balsa"/>
          <p:cNvPicPr/>
          <p:nvPr/>
        </p:nvPicPr>
        <p:blipFill>
          <a:blip r:embed="rId1"/>
          <a:stretch/>
        </p:blipFill>
        <p:spPr>
          <a:xfrm>
            <a:off x="539640" y="2421000"/>
            <a:ext cx="3810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Comercio interna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4437000"/>
            <a:ext cx="793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roductos: conchas mullu (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spondylus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), esmeraldas, oro, charqui, cobre, pescado seco, sal, tejidos, ceramios, maíz, coca, ají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8" descr="mullu"/>
          <p:cNvPicPr/>
          <p:nvPr/>
        </p:nvPicPr>
        <p:blipFill>
          <a:blip r:embed="rId1"/>
          <a:stretch/>
        </p:blipFill>
        <p:spPr>
          <a:xfrm>
            <a:off x="755640" y="1484280"/>
            <a:ext cx="1631880" cy="141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er%C3%A1mica_de_Chincha"/>
          <p:cNvPicPr/>
          <p:nvPr/>
        </p:nvPicPr>
        <p:blipFill>
          <a:blip r:embed="rId2"/>
          <a:stretch/>
        </p:blipFill>
        <p:spPr>
          <a:xfrm>
            <a:off x="6300720" y="2852640"/>
            <a:ext cx="1093680" cy="14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019-chincha-kultur-metallmasken"/>
          <p:cNvPicPr/>
          <p:nvPr/>
        </p:nvPicPr>
        <p:blipFill>
          <a:blip r:embed="rId3"/>
          <a:stretch/>
        </p:blipFill>
        <p:spPr>
          <a:xfrm>
            <a:off x="2484360" y="2924280"/>
            <a:ext cx="2016360" cy="130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esmeraldas%20aguamarinas%20y%20morganitas"/>
          <p:cNvPicPr/>
          <p:nvPr/>
        </p:nvPicPr>
        <p:blipFill>
          <a:blip r:embed="rId4"/>
          <a:stretch/>
        </p:blipFill>
        <p:spPr>
          <a:xfrm>
            <a:off x="2411280" y="1628640"/>
            <a:ext cx="1616040" cy="13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(377)cobre"/>
          <p:cNvPicPr/>
          <p:nvPr/>
        </p:nvPicPr>
        <p:blipFill>
          <a:blip r:embed="rId5"/>
          <a:stretch/>
        </p:blipFill>
        <p:spPr>
          <a:xfrm>
            <a:off x="7667640" y="162864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2324085546_c2925e0d53"/>
          <p:cNvPicPr/>
          <p:nvPr/>
        </p:nvPicPr>
        <p:blipFill>
          <a:blip r:embed="rId6"/>
          <a:stretch/>
        </p:blipFill>
        <p:spPr>
          <a:xfrm>
            <a:off x="4067280" y="1484280"/>
            <a:ext cx="2023920" cy="151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045-kunsthandwerk-webereien-pullover"/>
          <p:cNvPicPr/>
          <p:nvPr/>
        </p:nvPicPr>
        <p:blipFill>
          <a:blip r:embed="rId7"/>
          <a:stretch/>
        </p:blipFill>
        <p:spPr>
          <a:xfrm>
            <a:off x="4500720" y="2997360"/>
            <a:ext cx="1755720" cy="131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hojas_de_coca"/>
          <p:cNvPicPr/>
          <p:nvPr/>
        </p:nvPicPr>
        <p:blipFill>
          <a:blip r:embed="rId8"/>
          <a:stretch/>
        </p:blipFill>
        <p:spPr>
          <a:xfrm>
            <a:off x="6012000" y="1484280"/>
            <a:ext cx="1780920" cy="13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maiz-colores"/>
          <p:cNvPicPr/>
          <p:nvPr/>
        </p:nvPicPr>
        <p:blipFill>
          <a:blip r:embed="rId9"/>
          <a:stretch/>
        </p:blipFill>
        <p:spPr>
          <a:xfrm>
            <a:off x="468360" y="2924280"/>
            <a:ext cx="201600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Aj%C3%AD+peruano"/>
          <p:cNvPicPr/>
          <p:nvPr/>
        </p:nvPicPr>
        <p:blipFill>
          <a:blip r:embed="rId10"/>
          <a:stretch/>
        </p:blipFill>
        <p:spPr>
          <a:xfrm>
            <a:off x="7380360" y="2852640"/>
            <a:ext cx="10094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ullu"/>
          <p:cNvPicPr/>
          <p:nvPr/>
        </p:nvPicPr>
        <p:blipFill>
          <a:blip r:embed="rId1"/>
          <a:stretch/>
        </p:blipFill>
        <p:spPr>
          <a:xfrm>
            <a:off x="1187280" y="1052640"/>
            <a:ext cx="393552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156360" y="3011400"/>
            <a:ext cx="12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508720" y="1484280"/>
            <a:ext cx="32400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mercio internacional: triángulo Altiplano Bolivia – Colombia/Ecuador – Costa Sur Per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20080605klphishpe_53_Ies_SCO"/>
          <p:cNvPicPr/>
          <p:nvPr/>
        </p:nvPicPr>
        <p:blipFill>
          <a:blip r:embed="rId2"/>
          <a:stretch/>
        </p:blipFill>
        <p:spPr>
          <a:xfrm>
            <a:off x="5867280" y="3860640"/>
            <a:ext cx="25704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So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s la cultura co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ayor proporción de pescadores y comerciantes en el Antiguo Perú: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20% comerciantes, 33% pescadores, 7% artesanos y sólo 40% agricult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ABTO001"/>
          <p:cNvPicPr/>
          <p:nvPr/>
        </p:nvPicPr>
        <p:blipFill>
          <a:blip r:embed="rId1"/>
          <a:stretch/>
        </p:blipFill>
        <p:spPr>
          <a:xfrm>
            <a:off x="5508720" y="4076640"/>
            <a:ext cx="2801880" cy="2136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titicaca"/>
          <p:cNvPicPr/>
          <p:nvPr/>
        </p:nvPicPr>
        <p:blipFill>
          <a:blip r:embed="rId2"/>
          <a:stretch/>
        </p:blipFill>
        <p:spPr>
          <a:xfrm>
            <a:off x="2843280" y="4724280"/>
            <a:ext cx="2657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u máximo gobernante era llamado Chinchaycápa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Fueron incorporados al Imperio Inca por Pachacútec (Siglo XV d.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bido a la riqueza de sus mercaderes y a que no ofrecieron resistencia al ejército incaico, su líder era el único que podía ser llevado en andas y entraba después del Inca a las ceremonia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28584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specto Cultural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Esculturas en made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allaban hermosos remos en madera, con diseños marinos (peces, aves guaneras, crustáce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8" descr="chincha4"/>
          <p:cNvPicPr/>
          <p:nvPr/>
        </p:nvPicPr>
        <p:blipFill>
          <a:blip r:embed="rId1"/>
          <a:stretch/>
        </p:blipFill>
        <p:spPr>
          <a:xfrm>
            <a:off x="6227640" y="1844640"/>
            <a:ext cx="219888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0000f0"/>
          <p:cNvPicPr/>
          <p:nvPr/>
        </p:nvPicPr>
        <p:blipFill>
          <a:blip r:embed="rId2"/>
          <a:stretch/>
        </p:blipFill>
        <p:spPr>
          <a:xfrm>
            <a:off x="4500720" y="2349360"/>
            <a:ext cx="1776240" cy="269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f_tall1"/>
          <p:cNvPicPr/>
          <p:nvPr/>
        </p:nvPicPr>
        <p:blipFill>
          <a:blip r:embed="rId3"/>
          <a:stretch/>
        </p:blipFill>
        <p:spPr>
          <a:xfrm>
            <a:off x="6372360" y="4149720"/>
            <a:ext cx="1726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1:27:16Z</dcterms:created>
  <dc:creator>Beautiful Lia</dc:creator>
  <dc:description/>
  <dc:language>en-US</dc:language>
  <cp:lastModifiedBy>ELIZABETH</cp:lastModifiedBy>
  <dcterms:modified xsi:type="dcterms:W3CDTF">2009-11-11T22:17:22Z</dcterms:modified>
  <cp:revision>33</cp:revision>
  <dc:subject/>
  <dc:title>CULTURAS PREHISPÁNICAS DEL PERÚ  CHINCHA</dc:title>
</cp:coreProperties>
</file>